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E2AA2-D9AC-4A7D-8499-54822E9B2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1484280"/>
            <a:ext cx="6478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0920" y="3789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50920" y="4705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2B4F1-3BE7-476D-B7E4-0745E25BA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79640" y="1484280"/>
            <a:ext cx="6478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0920" y="3789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0880" y="3789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050920" y="4705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0880" y="4705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3D18E-DCDF-463D-875A-6A751320F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79640" y="1484280"/>
            <a:ext cx="6478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50920" y="3789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14880" y="3789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9200" y="3789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050920" y="4705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214880" y="4705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9200" y="4705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1BB6D-9679-4D06-A1F7-A8EF13F6E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640" y="1484280"/>
            <a:ext cx="6478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050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79640" y="1484280"/>
            <a:ext cx="6478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640" y="1484280"/>
            <a:ext cx="6478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50920" y="3789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30880" y="3789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9640" y="1484280"/>
            <a:ext cx="6478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979640" y="1484280"/>
            <a:ext cx="64785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1484280"/>
            <a:ext cx="6478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0920" y="3789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0880" y="3789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050920" y="4705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79640" y="1484280"/>
            <a:ext cx="6478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050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80850-67D4-41D8-A228-CF1A86BDA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640" y="1484280"/>
            <a:ext cx="6478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0920" y="3789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0880" y="3789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0880" y="4705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640" y="1484280"/>
            <a:ext cx="6478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0920" y="3789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0880" y="3789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50920" y="4705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640" y="1484280"/>
            <a:ext cx="6478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0920" y="3789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050920" y="4705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79640" y="1484280"/>
            <a:ext cx="6478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050920" y="3789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0880" y="3789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050920" y="4705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0880" y="4705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79640" y="1484280"/>
            <a:ext cx="6478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50920" y="3789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14880" y="3789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79200" y="3789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050920" y="4705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14880" y="4705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79200" y="4705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79640" y="1484280"/>
            <a:ext cx="6478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50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B1046-AD7A-46D1-BC17-6A77671F0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1484280"/>
            <a:ext cx="6478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50920" y="3789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30880" y="3789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5A238-E514-4C8E-90CC-575776091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9640" y="1484280"/>
            <a:ext cx="6478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345F5-A9A6-4D7D-8078-5C8C0991F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79640" y="1484280"/>
            <a:ext cx="64785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9EF9F-2C07-4F77-BBB9-451C87083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9640" y="1484280"/>
            <a:ext cx="6478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50920" y="3789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30880" y="3789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050920" y="4705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FDC85-E037-4969-BB92-9239803FC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79640" y="1484280"/>
            <a:ext cx="6478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50920" y="3789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30880" y="3789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0880" y="4705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C0978-0F3A-4AB8-A2FE-535582494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79640" y="1484280"/>
            <a:ext cx="6478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50920" y="3789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0880" y="3789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50920" y="4705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CBC27-8E0D-4EBB-88C5-E1E3EE016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7416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341000"/>
            <a:ext cx="6985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84720" y="6578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29200" y="6021000"/>
            <a:ext cx="514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A1CA-FEEB-4449-A6F0-03BC994C2D05}" type="slidenum">
              <a:rPr b="0" lang="en-US" sz="1400" spc="-1" strike="noStrike">
                <a:solidFill>
                  <a:srgbClr val="33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187280" cy="744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76360" y="0"/>
            <a:ext cx="0" cy="6858000"/>
          </a:xfrm>
          <a:prstGeom prst="line">
            <a:avLst/>
          </a:prstGeom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084720" y="6524640"/>
            <a:ext cx="3059280" cy="0"/>
          </a:xfrm>
          <a:prstGeom prst="line">
            <a:avLst/>
          </a:prstGeom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9640" y="1484280"/>
            <a:ext cx="6478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187280" cy="74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0"/>
            <a:ext cx="0" cy="6858000"/>
          </a:xfrm>
          <a:prstGeom prst="line">
            <a:avLst/>
          </a:prstGeom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619280" y="1341360"/>
            <a:ext cx="3771720" cy="2590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148360" y="4076640"/>
            <a:ext cx="37717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8:39:42Z</dcterms:created>
  <dc:creator>santocch</dc:creator>
  <dc:description/>
  <dc:language>en-US</dc:language>
  <cp:lastModifiedBy>santocch</cp:lastModifiedBy>
  <dcterms:modified xsi:type="dcterms:W3CDTF">2005-06-09T13:47:26Z</dcterms:modified>
  <cp:revision>106</cp:revision>
  <dc:subject/>
  <dc:title>ttH→8j: Jet Optimization Generator &amp; Full Reconstruction</dc:title>
</cp:coreProperties>
</file>